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5EB9-CDBD-41D6-9B94-B9FA8FE16B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DA81-B21A-4431-9E81-9A9230C2593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是我家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집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有两个妹妹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iǎ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多大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얼마나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uō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弟弟八岁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되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二十四岁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살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나이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u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年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几年级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학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iánj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小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小学六年级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초등학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ǎoxu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初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初中一年级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307200"/>
            <a:ext cx="62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중학교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ūzhō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高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高中二年级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고등학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āozhō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大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大学四年级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대학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àxu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年纪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多大年纪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나이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연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iánj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有一个弟弟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家有几口人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몇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家有四口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식구를 세는 단위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哥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没有哥哥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빠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ēg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没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没有弟弟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없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éiy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有几个弟弟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명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è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姐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她是我姐姐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누나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언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ěji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妹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有个妹妹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여동생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èime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2:09:34Z</dcterms:modified>
  <cp:revision>104</cp:revision>
  <dc:subject/>
  <dc:title>슬라이드 1</dc:title>
</cp:coreProperties>
</file>